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660-9670-48C5-AA71-2214E192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1BF-AB83-4848-ACD6-CBB2D5D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3C8-CD19-4513-8150-1A0DEA2C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BA1-1300-4038-AB56-8B0C3F75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91D-6788-480A-803F-195071C5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ED1-71FF-4D4B-B66B-EBDEBA9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852-A197-4801-8E86-BA5192C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075-B698-43C0-B135-BC161BA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2E2-0EB4-49B3-A0C5-B703C81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D45-5608-4613-A0CF-6D7E169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18A-B0CF-4D1F-838D-4ABD330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8B5-8BC1-4AC4-8C4C-3394363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1C31-60C3-4DBE-8C56-483B356D080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rtner Numbers to 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you see a number, you must say its partner number to 10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7077240" y="3444840"/>
            <a:ext cx="2242800" cy="19130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554040" y="171360"/>
            <a:ext cx="2128680" cy="1432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1584360" y="4962600"/>
            <a:ext cx="20304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90720" y="1752480"/>
            <a:ext cx="7696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1752480"/>
            <a:ext cx="67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9320" y="1752480"/>
            <a:ext cx="7010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GO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davidl.cogswell\AppData\Local\Microsoft\Windows\Temporary Internet Files\Content.IE5\Z7QGQ8E3\MP900448675[1].jpg"/>
          <p:cNvPicPr/>
          <p:nvPr/>
        </p:nvPicPr>
        <p:blipFill>
          <a:blip r:embed="rId1"/>
          <a:stretch/>
        </p:blipFill>
        <p:spPr>
          <a:xfrm>
            <a:off x="0" y="2457360"/>
            <a:ext cx="4400640" cy="4400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219320" y="0"/>
            <a:ext cx="792468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00"/>
                </a:solidFill>
                <a:latin typeface="Calibri"/>
              </a:rPr>
              <a:t>Great Job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</a:rPr>
              <a:t>How did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2:08:30Z</dcterms:created>
  <dc:creator>David Cogswell</dc:creator>
  <dc:description/>
  <dc:language>en-US</dc:language>
  <cp:lastModifiedBy>Mike</cp:lastModifiedBy>
  <dcterms:modified xsi:type="dcterms:W3CDTF">2012-07-10T01:58:21Z</dcterms:modified>
  <cp:revision>2</cp:revision>
  <dc:subject/>
  <dc:title>Doubles!</dc:title>
</cp:coreProperties>
</file>